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F786-77CB-4EB5-B63D-3B948AEC393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CBDF-7350-4252-8C6C-DD78F4CDD9E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7AED-CFB5-46FC-BB29-C2900839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8700-61F1-435C-ADE0-73A027EB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33E-73DF-4EDE-BFE7-9855462F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14D-38F1-41BC-9124-9BC55CAA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AB7-0D28-4FB5-B136-D126C36E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DEE-1965-4DD9-BAA8-2A9CA16B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4247-5A02-4859-A5DF-8748B986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512-BBA0-41F5-B53F-271A7629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D6C-B170-4CA3-99F7-B623AA50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BFF-924B-4BD4-8C57-07D183BC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BCA-CB72-4BB5-8646-FB9147DE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23E-3F69-4D47-9ED0-BE3B50EF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8A78-71BA-4359-8334-FB850AAA9D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拟在华工作时间：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2012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</a:t>
            </a:r>
            <a:r>
              <a:rPr b="1" lang="zh-CN" sz="18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　　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个月，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2013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</a:t>
            </a:r>
            <a:r>
              <a:rPr b="1" lang="zh-CN" sz="18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　　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个月，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2014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</a:t>
            </a:r>
            <a:r>
              <a:rPr b="1" lang="zh-CN" sz="18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　　　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345600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400"/>
                <a:gridCol w="768600"/>
                <a:gridCol w="457200"/>
                <a:gridCol w="766440"/>
                <a:gridCol w="64800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1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五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用人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用人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ym</cp:lastModifiedBy>
  <dcterms:modified xsi:type="dcterms:W3CDTF">2012-02-24T02:17:25Z</dcterms:modified>
  <cp:revision>20</cp:revision>
  <dc:subject/>
  <dc:title>PowerPoint 演示文稿</dc:title>
</cp:coreProperties>
</file>