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3BF-26A5-45CE-A40B-22285E4EEC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65D-3E6B-4ABF-AB56-9421F7662D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AFE-1890-4C37-98BA-AF022411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D63-E1ED-43E9-AA4F-10356350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3F3-CE84-4583-AC57-5F3B624F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0AF-01C4-49E0-B875-2A285ED6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690-F014-4C2E-A54A-148283C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1DF-84C3-47E6-9DD9-A0B1AF8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59B-D42D-4DA2-98C5-C2A180F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DB8-162C-4901-AFAF-C7A07163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446-F174-4C79-A76B-073AA98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FDF-E4E6-4B1F-96B3-4C8D205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B69-9D1C-49FF-A0EE-F3ACC62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EB8-2065-4F4D-A3B6-50836E9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E4B-625A-4CBB-B1D3-E2F2E23303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2-09-24T06:38:52Z</dcterms:modified>
  <cp:revision>20</cp:revision>
  <dc:subject/>
  <dc:title>PowerPoint 演示文稿</dc:title>
</cp:coreProperties>
</file>